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3C0-8C47-48EB-9092-F8A9C35E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591-864A-405D-9A07-6495E94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51E-95A6-41DB-87D6-198C461A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B47-8B03-4C2A-8B88-BED7B91C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F31-2566-4769-8F52-21DA4847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8A8-08DF-42F3-90A0-94F8697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787-48E1-4B8A-8A3F-59A8EBB8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E9D-A65A-431B-B674-FCA02C4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B18-73CE-4ED0-8995-173CAC06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ABE-1D0B-49B1-99BC-6855A69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AAA-C08D-4CC5-8166-358C8F3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480-369D-43A5-AE43-4B8D567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343-3806-4F9C-A09B-1476262F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clipart/FX101321031033.aspx?pid=CL100570201033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49568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How to use 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manda, Nadine, Ji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94200">
            <a:off x="304560" y="457200"/>
            <a:ext cx="31129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reate five slides on powerpoint based on a given top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will include text and graph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will provide a CD, link with powerpoint templates.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ffice.microsoft.com/en-us/clipart/FX101321031033.aspx?pid=CL10057020103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online links to teachers so that they can access instructional tools on powerpoint on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struction to teachers in how to use powerpoint (after school, training day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staff develop, project goals by grade level and set time table for compl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 or lab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or or smart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 fund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-40 laptops (Derek special, $649.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laptop $749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or $57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board $144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Development trainer $250.00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/evaluati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urvey of staff to evaluate interest, skills, and classroom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year check up with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Night-Showcase the power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year survey with things to improve on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35:08Z</dcterms:created>
  <dc:creator>User</dc:creator>
  <dc:description/>
  <dc:language>en-US</dc:language>
  <cp:lastModifiedBy>User</cp:lastModifiedBy>
  <dcterms:modified xsi:type="dcterms:W3CDTF">2008-08-04T16:54:46Z</dcterms:modified>
  <cp:revision>2</cp:revision>
  <dc:subject/>
  <dc:title>How to use Powerpoint</dc:title>
</cp:coreProperties>
</file>